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426-4B87-4090-BAF1-7F432ABB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E45-4457-49FE-B1CF-50EA010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5A4-733D-48AB-9986-51F49813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177-70CD-43D2-A439-1502440E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8410-AB3E-434D-8FFE-8EFDD4AD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89EE-E255-416D-92BF-DAB96707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965-45E2-48CF-9880-DC91F718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CD26-3E75-495C-B79A-2818900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9F27-490F-4755-9C6A-D369383A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4F9D-CCBC-45E2-96DB-4F2E4B4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6E8-677D-4A29-8827-DC4F50CA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45E-36B5-408C-8931-E9813D58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9F80-E726-4F23-B378-029EC74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E38-EA42-47CE-97C7-6D3C156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A99D-83E2-42F7-BF8A-CA82FBBB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7E42-97F2-4421-9826-97B82EE2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B9B8-6FB9-4227-A708-F68A8113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41C4-F803-4F3E-A4EE-A18A572A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3EE5-CA23-49F8-BDAB-9665182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675C-DA2D-4C9F-AEB4-571FF315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DFE5-D692-4A40-B836-4676B511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42EC-640F-4466-BCD7-D7735399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EDA-8AAB-4578-B4E0-6E25730D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8181-BCA7-4546-84FE-68D4585F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8D4A-78A7-4C46-95D7-6A59B50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D4F6-9D79-43D8-AA2E-4CF12D9A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F891-E51D-498B-A10E-FD74C0D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BE4F-FFE1-4481-B974-A9680CC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6C8F-3C15-4290-8859-CF25054B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451D-DE6F-42A4-813C-97B985EE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E58C-A72E-4D94-BF5D-745848CF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DA72-F081-435E-A891-A34ABFCB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154C-C049-42F1-BE94-2CE526E9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239-3337-4D63-8694-F034E3B3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608A-0ED6-4801-A02D-BA8808A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AB32-2125-48DB-BBE6-5B539D96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39AE-6404-45F5-A11E-6DA64C8A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2276B-EFF0-49F1-A029-E97ECD4C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AAB5-17B9-4120-A263-C5D6783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14D1-F7D4-4391-8828-B633271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06EDC-7CF3-41DA-A783-B9DA8AC5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C4333-F828-4363-AAC8-591719ED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C861-76BD-49DB-8CC4-AFCCB92D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B0C7-27F3-4FA2-ABFD-0745AB58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62F-431F-49CD-B94F-47C0F9FB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410E1-DF77-4FDE-BAE4-C4A5B97D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5A7F-BFA2-494E-B490-1685094F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A37BD-8844-4706-8A7E-772BD27A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000D5-CB2D-498E-BBAE-D4BB0AC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AC3C-F939-4559-A363-5C14041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A34D-51CA-4198-9091-5A246062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2BD55-0B0F-43BC-84F9-07D747F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5483D-BF08-4A12-B674-53DB51B4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549C5-AC8A-4A35-B9CA-C30EF230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BFDDD-5A4A-44A7-ABAC-AFFBDD28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BE1-E318-48A7-B97D-5D2A52D1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9648-F5BF-4076-8AC9-D206022F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B54-1BF3-44AE-A965-C53990B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595-DA3E-44B3-91EC-878995EB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056-4CB6-46AD-A61A-75DBA710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6328-9EB1-4CD6-BDE2-906985ADE0F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3052-F4BE-4645-B20F-3208DED0A3B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D18F-BB18-4C19-B5D3-A6DE49853ED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7835-E4D3-4C73-89DA-B0CA179938D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63BF-2CAD-4262-9228-358BD16A6DE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639880" y="365040"/>
            <a:ext cx="6235920" cy="3043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071440" y="5428800"/>
            <a:ext cx="66862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одготовили: Цыпанова А., Мезенцева Н., Гира 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туденты 646 групп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428760" y="500040"/>
            <a:ext cx="77151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иск путей и способов обучения детей осуществлению анализа реальных предметов и их част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учить и проанализировать литературу по проблеме осуществления анализа реальных предметов и их частей детьми дошкольного возраст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дбор дидактического материала по проблеме осуществления анализа реальных предметов и их част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Возраст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: старшая, подготовительная групп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642960" y="642960"/>
            <a:ext cx="7358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 вообще то, что дано в познании, или на что обращена наша познавательная деятельнос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 Объект (предмет) вообще то, что дано в познании, или на что обращена наша познавательная деятельнос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Часть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 доля целого, дробь, не все или нецело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"/>
          <p:cNvSpPr/>
          <p:nvPr/>
        </p:nvSpPr>
        <p:spPr>
          <a:xfrm>
            <a:off x="642960" y="500040"/>
            <a:ext cx="778680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Анализ реальных предметов и их частей включает следующие подтем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деление элементов и свойств геометрических фигур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явление особенностей взаимного расположения объектов и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+ Создание кластеров по темам дисциплины «Графика в ДОУ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714240" y="90720"/>
            <a:ext cx="671544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Игры и упражнени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Соедините картинки на которых предметы расположены одинаково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. Раскрась одинаковым цветом круги точно такого размера как круг в рамке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. В каждом ряду найди и дорисуй картинку в которой чего-то не хватает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. Щенки взяли на прогулку разные предметы. Дорисуй самому толстому щенку бутерброд, самому худому—мячик, остальным—любые другие предметы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. Нарисуй пропущенные предметы (флажок, цветочек, шарик, флажок...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6. Соедини линиями одинаковые по высоте деревь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7. На рисунке слева раскрасьте все овощи, а на рисунке справа—все фрукты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8. Сможет ли Лисёнок поехать на этом велосипеде? (колёса овальной формы) Какой формы должны быть колёса? (круглые) Проведи по пунктиру сплошные линии, рисунок раскрас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85840" y="214200"/>
            <a:ext cx="7500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иагностика (задания те ж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 балл – ребёнок не выполняет зад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 балла – ребёнок выполняет задание, но не полностью, прибегает к помощи воспитател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 балла – ребёнок выполняет задание правильно, без ошибок и без помощи воспитател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Уровн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ровень – ребёнок не умеет осуществляьб анализ реальных предметов и час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ровень – ребёнок с трудом осуществляет анализ реальных предметов и час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ровень – ребёнок умеет осуществлять анализ реальных предметов и час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214200" y="315000"/>
            <a:ext cx="78580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Е.И. Соловьёва Твоё путешествие в мир геометр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А. Бортовский, И. Лыкова Цветнаягеометрия (карапуз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Е.В. Новикова Как подготовить руку ребёнка к письм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Волшебные фигуры, геометрия для дошкольник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А.Е. Мерзен, А.Л. Чекен Азбука математи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6. Е.И. Соловьева Весёлая математика для самых маленьких; готовимся к школ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9:55:06Z</dcterms:created>
  <dc:creator>Ketik</dc:creator>
  <dc:description/>
  <dc:language>en-US</dc:language>
  <cp:lastModifiedBy>Гира</cp:lastModifiedBy>
  <dcterms:modified xsi:type="dcterms:W3CDTF">2008-12-22T11:53:02Z</dcterms:modified>
  <cp:revision>7</cp:revision>
  <dc:subject/>
  <dc:title>Как научить ребёнка осуществлять анализ реальных объектов и их частей</dc:title>
</cp:coreProperties>
</file>